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86C7-CC67-4A1D-A8E6-06B006E8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B349-F172-4F7E-8EAA-9F0B65E6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1538-4988-4CB5-A077-5560CF23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BD00-DF87-4828-9C16-59A17CFE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3EE5-51CA-45D4-9D76-6FEA5943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F566-3DBA-4E0F-9940-EC248472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12B3-46DB-4004-BF2F-A75E0F53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30CD-513D-49CF-8F3D-67097B03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910-66E4-487B-82BF-85DC53CF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FD93-8407-49CF-BB01-CEB16553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5038-A5C0-4CA0-B916-BC53E7C1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E7D9-68F4-4F5B-85A2-A1C3B325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2163-724A-468C-B629-A66D0EE7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DB95-245B-41C1-A6A9-212F7304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7A49-08C9-468F-97FC-9EB643A6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656C-DEBC-4923-A546-F91015A5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9E28-853E-4981-8A97-0D1563D7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0525-DC7F-44A2-BE1E-EAA9AE5C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9F95-12A9-4020-821C-47489B3B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29CA-C371-486C-9CFB-1AB8226A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4891-122C-433A-BCFC-1D0AA1AB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9D16-1026-4BC8-8F17-22D7B03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3EEF-2C8D-454D-85C9-60DED17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BFD9-C973-4530-BE14-BCADCB53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D9B8-CC2D-4961-AE8A-3E6E1DD03E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E153-9538-4740-BB75-DA37902B37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keletal System: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Axial Skelet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ul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tebral Colum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MPj03857840000[1]"/>
          <p:cNvPicPr/>
          <p:nvPr/>
        </p:nvPicPr>
        <p:blipFill>
          <a:blip r:embed="rId1"/>
          <a:stretch/>
        </p:blipFill>
        <p:spPr>
          <a:xfrm>
            <a:off x="380880" y="3886200"/>
            <a:ext cx="2819520" cy="201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Pj01811480000[1]"/>
          <p:cNvPicPr/>
          <p:nvPr/>
        </p:nvPicPr>
        <p:blipFill>
          <a:blip r:embed="rId2"/>
          <a:stretch/>
        </p:blipFill>
        <p:spPr>
          <a:xfrm>
            <a:off x="6858000" y="3352680"/>
            <a:ext cx="2021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ical Verteb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419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dy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thick weight bearing por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ertebral forame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the hole that holds the spinal cor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pinous Proces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a single projection for muscle attach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ansverse Proces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two lateral projections for muscle attach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ticular Process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the facets that allow the vertebrae to move with the vertebrae superior and inferior to th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7" descr="anibatter"/>
          <p:cNvPicPr/>
          <p:nvPr/>
        </p:nvPicPr>
        <p:blipFill>
          <a:blip r:embed="rId1"/>
          <a:stretch/>
        </p:blipFill>
        <p:spPr>
          <a:xfrm>
            <a:off x="6781680" y="0"/>
            <a:ext cx="1981440" cy="1238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vertebra-and-spinal-nerves"/>
          <p:cNvPicPr/>
          <p:nvPr/>
        </p:nvPicPr>
        <p:blipFill>
          <a:blip r:embed="rId2"/>
          <a:stretch/>
        </p:blipFill>
        <p:spPr>
          <a:xfrm>
            <a:off x="5486400" y="3962520"/>
            <a:ext cx="2822400" cy="22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384tvert"/>
          <p:cNvPicPr/>
          <p:nvPr/>
        </p:nvPicPr>
        <p:blipFill>
          <a:blip r:embed="rId3"/>
          <a:stretch/>
        </p:blipFill>
        <p:spPr>
          <a:xfrm>
            <a:off x="5410080" y="1295280"/>
            <a:ext cx="3133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tlas and Ax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tlas (C1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upports the he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ticulates with the occipital condyles of the skull (nod your head “yes”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xis (C2)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“peglike” dens makes a pivot for the head to rotate (move your head “no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atlas_axis_artic_rotated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189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456165094_96a9fd2260"/>
          <p:cNvPicPr/>
          <p:nvPr/>
        </p:nvPicPr>
        <p:blipFill>
          <a:blip r:embed="rId2"/>
          <a:stretch/>
        </p:blipFill>
        <p:spPr>
          <a:xfrm>
            <a:off x="5334120" y="1371600"/>
            <a:ext cx="3171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crum and Coccy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cru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holy bone): 5 fused vertebra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ually starts to fuse at age 16-18 and end in mid 20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a foundation for the pelvis and allows nerves to pa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ccyx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4 vertebrae that f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sion occurs between 20-30 years of 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10" descr="19464"/>
          <p:cNvPicPr/>
          <p:nvPr/>
        </p:nvPicPr>
        <p:blipFill>
          <a:blip r:embed="rId1"/>
          <a:stretch/>
        </p:blipFill>
        <p:spPr>
          <a:xfrm>
            <a:off x="4724280" y="1600200"/>
            <a:ext cx="44197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ural Anesthes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9" descr="epidural"/>
          <p:cNvPicPr/>
          <p:nvPr/>
        </p:nvPicPr>
        <p:blipFill>
          <a:blip r:embed="rId1"/>
          <a:stretch/>
        </p:blipFill>
        <p:spPr>
          <a:xfrm>
            <a:off x="0" y="1447920"/>
            <a:ext cx="5400720" cy="3609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pidural_needle_insertion_2_c_4x5"/>
          <p:cNvPicPr/>
          <p:nvPr/>
        </p:nvPicPr>
        <p:blipFill>
          <a:blip r:embed="rId2"/>
          <a:stretch/>
        </p:blipFill>
        <p:spPr>
          <a:xfrm>
            <a:off x="5486400" y="1447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childbirth-prep"/>
          <p:cNvPicPr/>
          <p:nvPr/>
        </p:nvPicPr>
        <p:blipFill>
          <a:blip r:embed="rId3"/>
          <a:stretch/>
        </p:blipFill>
        <p:spPr>
          <a:xfrm>
            <a:off x="5715000" y="4038480"/>
            <a:ext cx="3276720" cy="2316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4"/>
          <p:cNvSpPr/>
          <p:nvPr/>
        </p:nvSpPr>
        <p:spPr>
          <a:xfrm>
            <a:off x="-543600" y="5410080"/>
            <a:ext cx="685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umbing medicine is delivered near the spinal cor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rough the sacr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rn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a: Breastb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 separate bon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ubri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iphoid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ticulates with the ribs, provides attachment point for some abdominal muscles, hemopoi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ses in late teens; completely by age 4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8" descr="sternum"/>
          <p:cNvPicPr/>
          <p:nvPr/>
        </p:nvPicPr>
        <p:blipFill>
          <a:blip r:embed="rId1"/>
          <a:stretch/>
        </p:blipFill>
        <p:spPr>
          <a:xfrm>
            <a:off x="5334120" y="1600200"/>
            <a:ext cx="32954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 pairs (24 tot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ue Rib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pairs 1-7 directly attach to the sternum by costal cartil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alse Rib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airs 8-12, their cartilage attaches to the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ib cartil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loating Rib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pairs 11-12; don’t attach to the stern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7" descr="Go to fullsize image"/>
          <p:cNvPicPr/>
          <p:nvPr/>
        </p:nvPicPr>
        <p:blipFill>
          <a:blip r:embed="rId1"/>
          <a:stretch/>
        </p:blipFill>
        <p:spPr>
          <a:xfrm>
            <a:off x="5410080" y="380880"/>
            <a:ext cx="160020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frontribs"/>
          <p:cNvPicPr/>
          <p:nvPr/>
        </p:nvPicPr>
        <p:blipFill>
          <a:blip r:embed="rId2"/>
          <a:stretch/>
        </p:blipFill>
        <p:spPr>
          <a:xfrm>
            <a:off x="5410080" y="1600200"/>
            <a:ext cx="294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Sku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2 separate bones, many fused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divisi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anial Bones (8 bon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ial Bones (14 bon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8" descr="10062"/>
          <p:cNvPicPr/>
          <p:nvPr/>
        </p:nvPicPr>
        <p:blipFill>
          <a:blip r:embed="rId1"/>
          <a:stretch/>
        </p:blipFill>
        <p:spPr>
          <a:xfrm>
            <a:off x="4800600" y="16002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s of the Crani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close and protect the br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ntal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ietal 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mporal 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ccipital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henoid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thmoid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7924680" y="29448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Sphenoid</a:t>
            </a:r>
            <a:br>
              <a:rPr sz="1400"/>
            </a:b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 bon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" name="Group 17"/>
          <p:cNvGrpSpPr/>
          <p:nvPr/>
        </p:nvGrpSpPr>
        <p:grpSpPr>
          <a:xfrm>
            <a:off x="4648320" y="1600200"/>
            <a:ext cx="4114440" cy="3230640"/>
            <a:chOff x="4648320" y="1600200"/>
            <a:chExt cx="4114440" cy="3230640"/>
          </a:xfrm>
        </p:grpSpPr>
        <p:grpSp>
          <p:nvGrpSpPr>
            <p:cNvPr id="113" name="Group 11"/>
            <p:cNvGrpSpPr/>
            <p:nvPr/>
          </p:nvGrpSpPr>
          <p:grpSpPr>
            <a:xfrm>
              <a:off x="4648320" y="1600200"/>
              <a:ext cx="4038480" cy="3230640"/>
              <a:chOff x="4648320" y="1600200"/>
              <a:chExt cx="4038480" cy="3230640"/>
            </a:xfrm>
          </p:grpSpPr>
          <p:pic>
            <p:nvPicPr>
              <p:cNvPr id="114" name="Picture 8" descr="9057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1600200"/>
                <a:ext cx="4038480" cy="323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Rectangle 9"/>
              <p:cNvSpPr/>
              <p:nvPr/>
            </p:nvSpPr>
            <p:spPr>
              <a:xfrm>
                <a:off x="5486400" y="44956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8077320" y="2819520"/>
                <a:ext cx="53316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7" name="Line 12"/>
            <p:cNvSpPr/>
            <p:nvPr/>
          </p:nvSpPr>
          <p:spPr>
            <a:xfrm>
              <a:off x="7010280" y="3124080"/>
              <a:ext cx="990720" cy="0"/>
            </a:xfrm>
            <a:prstGeom prst="line">
              <a:avLst/>
            </a:prstGeom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7696080" y="3200400"/>
              <a:ext cx="228600" cy="304920"/>
            </a:xfrm>
            <a:prstGeom prst="line">
              <a:avLst/>
            </a:prstGeom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7856640" y="352440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Garamond"/>
                </a:rPr>
                <a:t>Ethmoid</a:t>
              </a:r>
              <a:br>
                <a:rPr sz="1400"/>
              </a:br>
              <a:r>
                <a:rPr b="0" lang="en-US" sz="1400" spc="-1" strike="noStrike">
                  <a:solidFill>
                    <a:srgbClr val="000514"/>
                  </a:solidFill>
                  <a:latin typeface="Garamond"/>
                </a:rPr>
                <a:t>bone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7620120" y="3809880"/>
              <a:ext cx="3808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moid and Sphenoid B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thmoid Bon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anterior part of the cranium b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ms the floor of the cra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s up the medial wall of the orbits (eye socket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major supporting structure for the nasal ca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phenoid Bon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medial base of the sk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nects the frontal, temporal, and parietal bon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lla Turcica: a “saddle” for the pituitary gland in the br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ethmoid"/>
          <p:cNvPicPr/>
          <p:nvPr/>
        </p:nvPicPr>
        <p:blipFill>
          <a:blip r:embed="rId1"/>
          <a:stretch/>
        </p:blipFill>
        <p:spPr>
          <a:xfrm>
            <a:off x="4987800" y="1600200"/>
            <a:ext cx="3732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tures in the Sku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tur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An immovable joint found only in the skull bo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ronal Sutu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between the frontal and two parieta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agittal Suture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tween the two parieta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mbdoid Suture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tween the two parietals and the occipi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quamous Sutur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between the parietals and temporal b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1055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5181480" y="1981080"/>
            <a:ext cx="3962520" cy="3816360"/>
            <a:chOff x="5181480" y="1981080"/>
            <a:chExt cx="3962520" cy="3816360"/>
          </a:xfrm>
        </p:grpSpPr>
        <p:pic>
          <p:nvPicPr>
            <p:cNvPr id="128" name="Picture 8" descr="sutures_ped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396252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9"/>
            <p:cNvSpPr/>
            <p:nvPr/>
          </p:nvSpPr>
          <p:spPr>
            <a:xfrm>
              <a:off x="7696080" y="266688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6781680" y="4267080"/>
              <a:ext cx="0" cy="53352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ntan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953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mbrane-filled spaces found between cranium bones in inf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ft Spot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ntually become ossified (replaced by bon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 f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abies skull to compress, thus allowing childbir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rain to grow before the skull is completely 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7" descr="9696"/>
          <p:cNvPicPr/>
          <p:nvPr/>
        </p:nvPicPr>
        <p:blipFill>
          <a:blip r:embed="rId1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Fontanel"/>
          <p:cNvPicPr/>
          <p:nvPr/>
        </p:nvPicPr>
        <p:blipFill>
          <a:blip r:embed="rId2"/>
          <a:stretch/>
        </p:blipFill>
        <p:spPr>
          <a:xfrm>
            <a:off x="5334120" y="1066680"/>
            <a:ext cx="380988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cial B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face grows the most in the first two years; then stops by the age of 16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asal Bon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axilla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form the lower orbit and upper jaw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Zygomatic Bon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cheekbon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andibl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lower jaw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acrimal Bone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mallest bones in the face; have a foramen for the tear duct to pa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latine Bon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 form the hard palate in the roof of the mo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7" descr="cranium_front"/>
          <p:cNvPicPr/>
          <p:nvPr/>
        </p:nvPicPr>
        <p:blipFill>
          <a:blip r:embed="rId1"/>
          <a:stretch/>
        </p:blipFill>
        <p:spPr>
          <a:xfrm>
            <a:off x="4876920" y="2209680"/>
            <a:ext cx="42670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oid 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U-shaped bone located in the neck between the mandible and the larynx (voicebox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articulate with any other b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s the tong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attachment for muscles to allow for neck movement and swallow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7" descr="hyoid"/>
          <p:cNvPicPr/>
          <p:nvPr/>
        </p:nvPicPr>
        <p:blipFill>
          <a:blip r:embed="rId1"/>
          <a:stretch/>
        </p:blipFill>
        <p:spPr>
          <a:xfrm>
            <a:off x="5410080" y="1600200"/>
            <a:ext cx="2667240" cy="200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yoid"/>
          <p:cNvPicPr/>
          <p:nvPr/>
        </p:nvPicPr>
        <p:blipFill>
          <a:blip r:embed="rId2"/>
          <a:stretch/>
        </p:blipFill>
        <p:spPr>
          <a:xfrm>
            <a:off x="5943600" y="3733920"/>
            <a:ext cx="19494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tebral Colum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ects the Spinal C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the major nerves to enter and exit the spinal c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33 Bo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 Cervic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 Thorac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Lumb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Sacral (fused to form the sacru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Coccygeal (fuse to form one or two fused = coccy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8" descr="07_16"/>
          <p:cNvPicPr/>
          <p:nvPr/>
        </p:nvPicPr>
        <p:blipFill>
          <a:blip r:embed="rId1"/>
          <a:stretch/>
        </p:blipFill>
        <p:spPr>
          <a:xfrm>
            <a:off x="4572000" y="2286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4:23:17Z</dcterms:created>
  <dc:creator>Jeff Burghardt</dc:creator>
  <dc:description/>
  <dc:language>en-US</dc:language>
  <cp:lastModifiedBy>Administrator</cp:lastModifiedBy>
  <dcterms:modified xsi:type="dcterms:W3CDTF">2010-07-19T12:52:20Z</dcterms:modified>
  <cp:revision>13</cp:revision>
  <dc:subject/>
  <dc:title>Skeletal System</dc:title>
</cp:coreProperties>
</file>